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B76-BD19-4FB5-956F-DE355957D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C8CE-2F3D-46DE-8A58-A50121BCC1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2F78-B037-4261-BBD3-AFDD4AC26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5D8E-D749-4666-B0D9-A12AFF9A8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44A5-C42A-410D-8498-ED62FE9644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D03C-93F6-4CAB-8E70-0F6E6C60DB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B44B-5A69-417E-8D9C-3FBAE3FFD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90A0-0003-439E-80A9-CA868D737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A235-A947-42EA-9D1C-2701C457D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D577-A624-4BB4-971C-BD825D898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79B0-F48C-4D00-9F15-D609D83CB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DC71-0928-40F2-9A5D-261849BC8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E487-29C5-453D-8CFB-E8258AC88B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6E48-F0C1-48AD-BB2F-08307F856C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279-3E6F-4D72-8317-BE36B707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043-B4BB-4206-94A1-D6E27C32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09D-7D27-4E91-95CF-4A779B80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EB23-B7AB-483E-91D0-ED6F5687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E6F4-8FAB-4F4B-B363-F4065A78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4A64-262C-4838-BE64-9CAB402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096-D9B4-46C6-9252-F501A05B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B6F2-B133-4D5C-B298-E761418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7EC6-6F15-4B96-8A9E-42D2C08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3231-B5BC-44A3-B5E7-9057AB7F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18CC-7DBF-4417-9183-66B1D45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55C-2689-4C52-B395-84DC7CC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08AD-155A-47CF-A9F6-7A363C5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EDCF-CF11-4A94-811F-2FA6A2B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69A-7B8B-4809-A863-73975929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44F-6935-41FD-9AC0-997EFAC7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8697-32ED-4B6E-899F-3FBC95A0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CC0-BF3C-46DB-A68C-53CCECA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1BB-6F90-4993-B28B-84696CBA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40D-4E48-40DB-9BA1-0366F057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2A8-8201-423C-A38C-A5ECA040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4F5-5623-4318-B4C4-8CCE43C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E4C-A8C6-4D11-9591-9F321B11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413-03F5-4C6D-8C97-F65E837E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2675-63BD-4BAF-B9F6-AAE70545B68B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20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2d2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2d2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DA9F-2590-4D5D-929C-5D7770CA22CC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hemistry 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ichiometry Reality I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termine the theoretical yield of a re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) Balanced reaction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 A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s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3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g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2 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Arial Narrow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les of each reacta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28600" y="4038480"/>
                <a:ext cx="85345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 Al = mass Al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g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2 mol 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250920" y="5181480"/>
                <a:ext cx="85708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mass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g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594 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termine the theoretical yield of a re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3) Limiting reacta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the limiting reactant, we predict a theoretical yield of 0.4396 mol of Al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3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ich translates int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304920" y="2590920"/>
                <a:ext cx="8534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mol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52 mol Al </m:t>
                    </m:r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 A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752 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304920" y="3429000"/>
                <a:ext cx="8588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594 mol 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 AlC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C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396 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457200" y="5319720"/>
                <a:ext cx="83818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ss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= mol AlC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6 mol </m:t>
                    </m:r>
                    <m:r>
                      <m:t xml:space="preserve">´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g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termine the Percent Yield of this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2324160" y="2459160"/>
                <a:ext cx="44211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 Yield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ctual Yiel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heoretical Yield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0%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g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0%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do you interpret a Percent Yield greater than 100%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percent yield greater than 100% means that the Actual Yield is </a:t>
            </a:r>
            <a:r>
              <a:rPr b="0" lang="en-US" sz="3200" spc="-1" strike="noStrike">
                <a:solidFill>
                  <a:srgbClr val="cc0000"/>
                </a:solidFill>
                <a:latin typeface="Arial Narrow"/>
              </a:rPr>
              <a:t>falsel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hi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s is most likely due to impurities in the produ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this example, the impurities could be excess Al or unknown products of side reactions that were not separated out before the final mass was measu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eaction is never 100% efficient.  In other wor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t all of the reactants in a chemical reaction are converted into the predicted products.  The products either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don’t form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or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ther products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form in unpredictable “side reaction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Why Calculate Percent Yiel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chemist wants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alyze the ef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reaction, the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lculate the percent yie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ifferent cond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emperature, pressure, etc. a reacti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fficiency may chan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lculation allows a chemist to compare a reaction under different conditions to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ter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conditions g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ximum ef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 re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lculation requires two bits of inform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.  Actual Yield -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The Swe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The mass of the product </a:t>
            </a:r>
            <a:r>
              <a:rPr b="0" lang="en-US" sz="2700" spc="-1" strike="noStrike" u="sng">
                <a:solidFill>
                  <a:srgbClr val="cc0000"/>
                </a:solidFill>
                <a:uFillTx/>
                <a:latin typeface="Arial"/>
              </a:rPr>
              <a:t>measured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 in an experi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.  Theoretical Yield - 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The Stoichiometr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The mass of the product </a:t>
            </a:r>
            <a:r>
              <a:rPr b="0" lang="en-US" sz="2700" spc="-1" strike="noStrike" u="sng">
                <a:solidFill>
                  <a:srgbClr val="cc0000"/>
                </a:solidFill>
                <a:uFillTx/>
                <a:latin typeface="Arial"/>
              </a:rPr>
              <a:t>calculated</a:t>
            </a: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 by stoichiometry – the ideal amou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 the Percent Yield, use this equ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914400" y="3352680"/>
                <a:ext cx="723888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Yield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Yiel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or mo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heoretical Yiel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or mol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 100%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pected Percent Yiel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cent yield is expected to b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ss than 100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there are two reasons for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st of the reactants in a reaction don’t have enough energy to re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ome of the reactants may react to form other products in “side reactions” and these products may not be measured in the Actual Yiel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wo industrious Chem students mix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15.52 g of Aluminum with 46.75 g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hlorine gas. When the reaction w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omplete, they found the mass of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oduct, aluminum chloride, to be 40.58 g.  What was the percent yie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Two industrious Chem students mixe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15.52 g of Aluminum with 46.75 g of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chlorine gas. When the reaction wa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complete, they found the mass of the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product, aluminum chloride, to be </a:t>
            </a:r>
            <a:r>
              <a:rPr b="0" lang="en-US" sz="3300" spc="-1" strike="noStrike">
                <a:solidFill>
                  <a:srgbClr val="cc0000"/>
                </a:solidFill>
                <a:latin typeface="Arial Narrow"/>
              </a:rPr>
              <a:t>40.58 g</a:t>
            </a: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In a stoichiometry question, the mass of the product that is given is the </a:t>
            </a:r>
            <a:r>
              <a:rPr b="0" lang="en-US" sz="3300" spc="-1" strike="noStrike">
                <a:solidFill>
                  <a:srgbClr val="cc0000"/>
                </a:solidFill>
                <a:latin typeface="Arial Narrow"/>
              </a:rPr>
              <a:t>Actual Yield</a:t>
            </a: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xample Percent Yield Ques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w would you find the actual yield of a reac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</a:t>
            </a:r>
            <a:r>
              <a:rPr b="0" lang="en-US" sz="3200" spc="-1" strike="noStrike">
                <a:solidFill>
                  <a:srgbClr val="cc0000"/>
                </a:solidFill>
                <a:latin typeface="Arial Narrow"/>
              </a:rPr>
              <a:t>measu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he mass of a produ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an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Actual Yield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Narrow"/>
              </a:rPr>
              <a:t>given in the question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56:57Z</dcterms:created>
  <dc:creator>Information Services</dc:creator>
  <dc:description/>
  <dc:language>en-US</dc:language>
  <cp:lastModifiedBy>Caitlin</cp:lastModifiedBy>
  <dcterms:modified xsi:type="dcterms:W3CDTF">2012-04-17T03:43:46Z</dcterms:modified>
  <cp:revision>14</cp:revision>
  <dc:subject/>
  <dc:title>Chemistry 11</dc:title>
</cp:coreProperties>
</file>